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2E8-8CA8-4FB6-8C46-D852A943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2DD-5787-4C13-9020-B14ED1AC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12EDF-4A91-4F6E-ABF6-B36F9387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88019-B56F-4507-A4E0-7EDC47B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B41EB-CEE2-4731-A015-407D612A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B9B49-936F-4ECA-BC4F-C0926FC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EDB84-33F7-4691-B973-F6EFAC0B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EEC31-7922-458C-9806-2A503E1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F7861-862B-490D-ABA4-BD80796F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D453D-6A89-491A-AF7F-9443822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6852C-2FF1-4434-AD7A-A1F14381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C18-6D90-4236-B2DC-7A4CEBC9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95E-7416-4E7F-A7F7-C374B683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E363-950E-4731-9A7C-4F2EE9B5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4F16-480A-487B-87F7-69031859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AB7D-0466-4687-AFED-3FDBBE2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70F2-54F1-4141-BCC0-6CBCC53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D88F-4814-4D2C-B860-2E6EBB3B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4240-4E1B-4D7C-B522-E6D6E4A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5BD2-3883-4F05-A6E7-16A17FF0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56C-688B-488F-BA75-803C3C61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5542-6628-474A-8913-85A3F3A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70E-D3DD-4AF0-9300-CB7F54F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FF9-B1B0-4706-B6BE-23DBBD6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937B-9D1C-4D96-A761-B28777F5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043-5C4C-438B-8D17-EB3F46A6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1C3F-8DB0-4892-83BD-32E45452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5D9D-6B3F-4D93-9CDE-7BBFBA34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4E01-1F20-4E8A-AF0D-8F151F2C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D7C1-18DE-4B85-8D6D-BE477F7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203A-50B4-4FFD-A38A-F7649951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A9F-0FC0-401E-B666-EA886112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97BA-D7F3-4A53-947A-FCA3069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F0AC-10A8-413C-A080-84D338F5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8BE4-05A6-4F0E-A1A8-DB3AFA0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7DC7-DF09-4785-A7FF-00F68D3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772D-CB5F-4A17-B615-2B7E711B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CC64-EF5A-47C6-B45E-2FBF0C3B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722B-B5EA-4D53-927B-3B418D5F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C963-4C13-4245-88CB-D096C393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6FCA-92C3-4E68-B2D8-181C7ACF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3AA2-59CA-4F92-9543-D798857F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ED6-4656-4E6E-B95C-641449E0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31F4-3851-4C15-90FF-2A424E4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3D47-1DD2-489C-8E07-0C1DA960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B7A4C-8B11-4CC9-815D-05E963FD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19BB-410A-4769-9B23-353FE65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5BC87-533C-47CA-A5CA-D0EA2B40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7749-7600-4D98-BC03-175B2B51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E52E2-20BD-4251-9983-FDEB149C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60F0-9F22-4D41-BC6D-2D4420AC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A00A-2CE6-467D-815C-C017C61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22E28-E539-4658-A2EC-741CAF57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9C7-F694-4F99-96E2-79631B8A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BBEC-80A3-49EC-8AB5-7D9A16D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AEE7-E2AB-48EA-816F-B53C352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81ED-527E-4BA3-80D2-E356B56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F085-119A-42DD-AB69-64C4A4A8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762D3-471D-4DE6-85B8-75E38972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9C45-8423-4646-9C38-B55F0C11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0486-027A-4F79-B0B2-BBDDFE14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EB53-3B4C-43EC-8B08-46C41EE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114E-2267-416C-BD03-FDC17B0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CC0C-33E0-4677-A132-28A14D27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948-DEC8-4DD1-8F8F-0FB8C674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E05E-1704-4171-964A-B13958A2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474C9-4A33-4216-A1AF-1F4B614B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02F0-9405-4E0A-8868-85D1199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B2D1-E85B-4190-95ED-59EB2D5B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A84F-A7C6-47EC-98D3-025C6BF9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BAE5E-C748-4417-B1B7-C18BAE9D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22C77-087A-47AE-8415-6D17CA8E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1735-7D20-47F8-9A9F-AFA533F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A6544-E918-422E-9CAD-F7D37A2E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B3127-C77C-4C38-A7A1-F6AB5AC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477-1C56-42AC-ABA4-57B25EB9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9CF5-5144-4FDB-B7C3-AAA8BF8A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9011-8511-4CF9-86BC-9A603D4E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941E7-F62D-481B-AA79-AD3F5E3B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5A800-A6FC-44DB-A171-12ADFA7D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08C3-699F-4C21-8E70-F4D6A30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C9086-60F1-4859-981D-2ECF1ED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5E66-79AF-450F-873D-CE4A1315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33381-EEC3-40B3-BFEA-61EDE406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54B0A-9C06-46B3-B03A-EDB1D140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76A3B-12CF-46DC-B397-B99D3B5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F5A-D3D4-4E43-BF88-CBFB20B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360B1-5C58-4A6E-B4E1-397794A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F345-C94B-4E58-940E-4B3FAA5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59DB-2E42-4A34-8C9D-6CC3E36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594AD-57A0-4D5F-88EA-CFDE444E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395FF-7781-4708-813A-71242B68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CA3A2-BAC3-4E7F-9C03-6330DF01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D504-4AF5-47F2-A527-934165F4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0B30F-5422-4653-8EFE-273D1EC0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C95F-3160-4E0C-A4C7-52066280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21EE-CE40-4C8A-876E-5A8E5BF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084-C391-4884-87E4-41ED46E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1E57F-18DB-4B50-8484-03DBF917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F60CF-F8BF-49E4-8D4D-DF296296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09248-4C5E-40A4-96E5-51E89EC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04FB9-473F-41C5-925E-30086BE5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F9D7F-11C2-4EF4-BBBF-30F5AD96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2204-FC15-42E8-A280-6C944D33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9275-F317-4362-9248-BB7D7BBD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D2E25-5C89-40F3-BEF4-1169C9C3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0F289-6AFA-4F44-9268-0042FF9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47D1E-902D-46CF-A851-C6D66A5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6AA0-2C67-49BE-B4C7-F1A1D5E3D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46B6-FC4E-414D-B619-145A80A7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35E7-F7B5-4975-9F7D-058408C9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40B-A634-43DB-91C3-50D14D2C1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A26-24CB-4987-8D4B-1C5E2EBA4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CFED-B166-4292-8498-7A21CD5F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0AD7-E0EF-485D-B051-6DCD4135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4E6-64A5-44F3-A435-E3320C509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C12F-437C-4514-8AB1-D7D51B6D3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1.3: functions and their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Set builder nota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variable | mathematical description of the variabl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x&gt;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y| 5&lt;y&lt;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ind the domain of f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ry thi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omain and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f(0) and f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x such that f(x)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648320" y="2057400"/>
          <a:ext cx="3882960" cy="38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8829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648320" y="2057400"/>
          <a:ext cx="3959280" cy="397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057400"/>
                    <a:ext cx="39592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Your assignmen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2-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0-5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4-5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4-8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8-9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a function four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nge and domain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What is a function?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very input (x) has exactly one output (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mphasize that y is a function of x, the notation y=f(x) is ofte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y is called the 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x is called the in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Anatomy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20)=4 would rea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of 20 equal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g, and h are often used as names of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514600"/>
            <a:ext cx="10670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38689"/>
              <a:gd name="adj5" fmla="val -66666"/>
              <a:gd name="adj6" fmla="val 17143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308628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500"/>
              <a:gd name="adj5" fmla="val -143750"/>
              <a:gd name="adj6" fmla="val -16666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24764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1944"/>
              <a:gd name="adj5" fmla="val -43750"/>
              <a:gd name="adj6" fmla="val -15833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Domain and range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valid or meaningful inputs (x) is called the domain of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sponding outputs (y) is the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dom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tated otherwise, the domain of a function f is the set of all real numbers that make sense for the function.   This is called the implied dom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ormal definition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ach element in the domain corresponds to one element in the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he vertical line tes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 possible vertical line intersects a graph at no more than one point, then the graph represents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se p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57200" y="3886200"/>
            <a:ext cx="6707160" cy="2143080"/>
            <a:chOff x="457200" y="3886200"/>
            <a:chExt cx="6707160" cy="2143080"/>
          </a:xfrm>
        </p:grpSpPr>
        <p:grpSp>
          <p:nvGrpSpPr>
            <p:cNvPr id="387" name=""/>
            <p:cNvGrpSpPr/>
            <p:nvPr/>
          </p:nvGrpSpPr>
          <p:grpSpPr>
            <a:xfrm>
              <a:off x="457200" y="3886200"/>
              <a:ext cx="4270320" cy="2066760"/>
              <a:chOff x="457200" y="3886200"/>
              <a:chExt cx="4270320" cy="2066760"/>
            </a:xfrm>
          </p:grpSpPr>
          <p:graphicFrame>
            <p:nvGraphicFramePr>
              <p:cNvPr id="388" name=""/>
              <p:cNvGraphicFramePr/>
              <p:nvPr/>
            </p:nvGraphicFramePr>
            <p:xfrm>
              <a:off x="457200" y="3962520"/>
              <a:ext cx="1984320" cy="1990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8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57200" y="3962520"/>
                        <a:ext cx="1984320" cy="199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0" name=""/>
              <p:cNvGraphicFramePr/>
              <p:nvPr/>
            </p:nvGraphicFramePr>
            <p:xfrm>
              <a:off x="2819520" y="3886200"/>
              <a:ext cx="1908000" cy="1914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9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819520" y="3886200"/>
                        <a:ext cx="1908000" cy="19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2" name=""/>
            <p:cNvGraphicFramePr/>
            <p:nvPr/>
          </p:nvGraphicFramePr>
          <p:xfrm>
            <a:off x="5029200" y="3886200"/>
            <a:ext cx="2135160" cy="2143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3886200"/>
                      <a:ext cx="2135160" cy="21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Representations of func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: i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: table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ften not possible or appropriate to list all values, this type of table is often referred to as a partial numerical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matically: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: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: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Using these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: f(x)=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0178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6:03:13Z</dcterms:created>
  <dc:creator>nuhs</dc:creator>
  <dc:description/>
  <dc:language>en-US</dc:language>
  <cp:lastModifiedBy>nuhs</cp:lastModifiedBy>
  <dcterms:modified xsi:type="dcterms:W3CDTF">2008-01-09T21:43:18Z</dcterms:modified>
  <cp:revision>7</cp:revision>
  <dc:subject/>
  <dc:title>1.3: functions and their representations</dc:title>
</cp:coreProperties>
</file>